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6D77-CFF2-4A74-B539-4112E97AD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25B2-C7B2-4F20-A19D-E0231F5DA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0147-6C5C-49DF-BE4D-203F1B9A1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190-5F11-4216-9E09-7F7F055B7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4C69-E6BE-45CF-9A51-2C6E53F31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9C08-9184-405C-BAB9-C84FCE5B4D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4DC7-9F9B-44E8-B3EB-D576894FD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AA97-1D08-44F8-ADF6-74CC22D3B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350F-7EAC-41A5-B3EA-E6DD520384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2F4A-69B6-4D70-861A-F33C6F3241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09BE-2CBC-4D31-B60C-3B7B96B0D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260A-4AE1-4E1D-9981-8B82AE7CA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D30B-6BA1-43EB-8255-D92E29EFB8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E124-8EAA-48CC-B6D4-AE4148C245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2973-0DCD-47F3-A1BC-90EABBB6BE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4D63-8762-47CA-B299-B44B25B94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7A66-F24C-453A-B232-CC73CF85F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813A-BCB2-4A9B-83A1-7A7C3903E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7ECE-6A5F-45E7-BDEC-29FC40452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1D09-9E91-4694-9DE2-1C84F77AF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CAEF-3D9C-45E0-AC63-871083CA7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C4F3-41FA-4DFD-9E93-7CCC26479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470C-AFFE-440D-AB52-4CF4FC44A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94C3-74C2-408E-AB7C-4C60B6831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EB87-731A-444F-BB21-C9127347BDC9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E1A-49FF-481F-A21E-6C873894FE48}" type="slidenum"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ntarctica.ac.uk/index.php" TargetMode="External"/><Relationship Id="rId3" Type="http://schemas.openxmlformats.org/officeDocument/2006/relationships/hyperlink" Target="http://www.antarctica.ac.uk/index.php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o you fancy working in the Antarctic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E2E7-39DC-4E32-B071-09EE2CC6E5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urrent Vacancies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re are 10 vacancies available. You can sort the list below by clicking on the column titles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Field Assistant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Head of Human Resources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23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Winter Base Commander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ase Commander - KEP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ase Commander - Bird Island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30 May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oating Officer - Rothera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ZOOLOGICAL FIELD ASSISTAN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oating Officer - KEP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Biological Science Support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Comic Sans MS"/>
              </a:rPr>
              <a:t>Scientific Assistant (Marine Biologist), KEP 06 Jun 2010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27EB-07B1-4948-9C49-3775024CE1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he British Antarctic Survey (BAS)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Its UK base is in Cambridge and it has Antarctic bases here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1519200"/>
            <a:ext cx="6769080" cy="508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1BB6-B215-45DB-B181-2E1DCBBBE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Take  a look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 main site is:</a:t>
            </a:r>
            <a:br>
              <a:rPr sz="2400"/>
            </a:b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www.antarctica.ac.uk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But you will dodging around the site to gather and share information about what it is to live on the Antarctic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So for instance about the various UK Research stations you might try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living_and_working/research_stations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n you might like to see what sort of jobs are available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employment/career_areas/index.php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n you might like to investigate daily life: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http://www.antarctica.ac.uk/living_and_working/index.php 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There are also diaries from people who have been there which may help </a:t>
            </a:r>
            <a:br>
              <a:rPr sz="2400"/>
            </a:br>
            <a:r>
              <a:rPr b="0" lang="en-GB" sz="2400" spc="-1" strike="noStrike">
                <a:solidFill>
                  <a:srgbClr val="006699"/>
                </a:solidFill>
                <a:latin typeface="Comic Sans MS"/>
              </a:rPr>
              <a:t>Want to add some Antarctic slang to your homework? http://www.coolantarctica.com/Community/antarctic_slang.htm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4579-8AB1-4CCA-BDD8-AF77C6884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Homework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24000" y="3213000"/>
            <a:ext cx="8496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s to gather the information into some form of communication - a letter home, an article for the local paper when you return - whatever takes your fancy 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A80C-435C-4085-95B8-BE0DD95C9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2:26:39Z</dcterms:created>
  <dc:creator>Lindy</dc:creator>
  <dc:description/>
  <dc:language>en-US</dc:language>
  <cp:lastModifiedBy>Lindy</cp:lastModifiedBy>
  <dcterms:modified xsi:type="dcterms:W3CDTF">2010-05-16T21:52:35Z</dcterms:modified>
  <cp:revision>4</cp:revision>
  <dc:subject/>
  <dc:title>Do you fancy working in the Antarctic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